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37C-40EF-4A73-93C9-FBADDFB5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403-745B-4E3C-8B2B-824DEA23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892-09A7-4B5B-BB27-5A77FC28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CEC-A41F-4EE3-81CA-8B54EA5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0AA-F655-4EE2-90C7-5ED4FB61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78AC-A257-4DED-90B2-D9EC3581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90A-8BEC-4806-9B51-C42D70A6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8310-4FBD-4C69-A6A3-5DA1272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15F-8494-4A63-BC97-486D10D3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614D-B517-415E-A33B-E97D856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AD19-DAF0-4C25-A2DB-D9A40BA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917-12F5-4565-AD2C-1985223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53B2-11D3-427E-8287-E8F5A12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9218-0EE8-431D-B07F-475A472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313A-D6B7-4CCC-BA23-5B6B56D6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33C-12D1-4014-A74B-49BA9FFA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A8B-BB34-44DA-97A8-BD5173F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23A-4FF5-4F9E-A7F1-9B5AB5E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E76-FC2A-4A89-90DD-EFAB63E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EAB-8E2D-460E-90D2-86EB0F8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BDB-991B-47D5-890B-D33100A1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374-22AC-4ACA-9669-F7E1F37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37D-37B8-469B-A0F8-5346921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B62-4BD3-4E95-B08A-0FDF42A0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538-BD6A-46A5-A5A8-FB8BB9E016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E5D-024B-401E-95B6-27C3584C17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-flags-symbols.com/_img_nations1/norwayflag.png&amp;imgrefurl=http://www.world-flags-symbols.com/norway/&amp;usg=__9qN-QR2OB0VGOcmMYUrjJuo2edk=&amp;h=582&amp;w=800&amp;sz=4&amp;hl=en&amp;start=9&amp;um=1&amp;tbnid=LHl4LObxJxWUsM:&amp;tbnh=104&amp;tbnw=143&amp;prev=/images%3Fq%3Dnorways%2Bflag%26um%3D1%26hl%3Den%26safe%3Dactive%26rlz%3D1T4IBMA_enUS309US309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tunliweb.no/Bilder_SM/_album_Bergen/a4d_1250pix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please.com/" TargetMode="External"/><Relationship Id="rId2" Type="http://schemas.openxmlformats.org/officeDocument/2006/relationships/hyperlink" Target="http://www.famouslandmarks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orwa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y Charles, Lydia, Nik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rade geograp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ndolph Scho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eri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sic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pulation: 4,644,45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 rate:11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fe expectancy:79.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ital city: Osl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nguages: Bokmal Norwegia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ynorsk Norwegi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Norwegian men are known as Vik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Olaf ll Haraldsson (also called Olaf the fa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Most of the first people 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rway were fishers and hunt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724280"/>
            <a:ext cx="26668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al geogra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Verdana"/>
              </a:rPr>
              <a:t>-</a:t>
            </a: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The largest lake in Norway is Lake Mjos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The Glomma River is the longest river in Nor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Norway is fairly warm because of the North Atlantic Curren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 Black"/>
              </a:rPr>
              <a:t>-Fjords are very common in Nor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94360" y="1827000"/>
            <a:ext cx="3589200" cy="1987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94360" y="3952800"/>
            <a:ext cx="3589200" cy="19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83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ltu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national holiday is  Constitution Day on May 1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of their food is seafood because Norway is located on a coastlin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mmegrot is a popular dish for youngst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65760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984480"/>
            <a:ext cx="3505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mous Landmark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Akershus fortress in Oslo Nor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Edvard Grieg Museum in Bergen Nor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Funicular in Bergen Norway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kershus Fortress"/>
          <p:cNvPicPr/>
          <p:nvPr/>
        </p:nvPicPr>
        <p:blipFill>
          <a:blip r:embed="rId2"/>
          <a:stretch/>
        </p:blipFill>
        <p:spPr>
          <a:xfrm>
            <a:off x="533520" y="4038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1911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Enchantment of the world Norwa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Martin Hintz, pg. 43,5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Norway in Pictu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john b. Burks jr., pg. 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infopleas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famouslandmarks.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31:31Z</dcterms:created>
  <dc:creator>lydiafairburn</dc:creator>
  <dc:description/>
  <dc:language>en-US</dc:language>
  <cp:lastModifiedBy>lydiafairburn</cp:lastModifiedBy>
  <dcterms:modified xsi:type="dcterms:W3CDTF">2009-02-11T19:59:11Z</dcterms:modified>
  <cp:revision>5</cp:revision>
  <dc:subject/>
  <dc:title>Norway</dc:title>
</cp:coreProperties>
</file>